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464D-471E-44F9-A03F-48A5410ADB1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fhjty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3AD-6661-424D-9545-7B146803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BD7-5B83-45BB-AE6B-341B9C4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51D-4601-456A-9DF5-7CB7D096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F19-E522-4452-B606-6A8AD034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0C0-1B70-48DE-B876-2943D204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0C6-9299-418B-99A3-47793F2B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36B-36E4-4D02-BA1E-DE06EEC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CB3-3D4C-46BF-BC1D-FF3346A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103-5C04-4F45-B1D6-6A53F358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00D-AA02-490E-923A-0514CB9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DCF-241F-44F6-B739-49A0026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CB8-3FC0-4716-9209-3994577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061B-504D-4AC1-B777-B3F1A4CC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080" y="297000"/>
            <a:ext cx="52160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Martinho Da V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o Embalo Do Sa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luna:Giovana e Pol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7º: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º:13 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7735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i no balanço do cavaco do Man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o meu samba devagar foi dando p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i que saudade da Rosinha de Valenç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u sorriso e seu suingue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dilhando o violão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cidade do Carci lá da Mangueir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imeiro som com o Manoel de Sapucai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foi o grande professor do Alceu Mai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não tem adversário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 seu cavaco na mão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4320" y="0"/>
            <a:ext cx="4819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i no balanço do cavaco do Man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o meu samba devagar foi dando p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i que saudade da Rosinha de Valenç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u sorriso e seu suingue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dilhando o violão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pois chegou o Manoel da Conceição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foi aí que o meu samba ficou bom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o Rildo Hor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é da terra do Cordel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aleja pros amigo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já estão lá no cé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quando aflor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á da gaita um som de mel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em saudade dos Carlinho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estão mesmo lá no céu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35:06Z</dcterms:created>
  <dc:creator>SEDMS</dc:creator>
  <dc:description/>
  <dc:language>en-US</dc:language>
  <cp:lastModifiedBy>SEDMS</cp:lastModifiedBy>
  <dcterms:modified xsi:type="dcterms:W3CDTF">2010-11-08T18:56:43Z</dcterms:modified>
  <cp:revision>2</cp:revision>
  <dc:subject/>
  <dc:title>Slide 1</dc:title>
</cp:coreProperties>
</file>